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9DFB-0198-4752-BA0F-42014913A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74BC-7097-4161-9CBB-ECEFA0C90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70DC-0930-44C3-BB04-A957552E1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981-017C-454C-B7D9-6D379337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B0F0-8CAF-4693-8A7E-2079950F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84D9-81C6-441B-BB30-09BF7354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A837-9635-4232-8D62-8AAB4F56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9C54-8920-4A40-87F7-185D0C97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C0D9-A059-446B-BBBE-BC2AF115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B298-53F0-4238-B627-518825A7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BACC-2FAF-4133-9826-C278DC6E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1EBB-C4B2-495C-8D14-A1A300148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37D1-910B-44F4-88E5-C04E21169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99C-FFDC-40FA-9AA8-1F02A0A2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A9E-B86B-481B-9888-BE585322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1A0-8201-4486-9413-C8B81D04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D6D-37A1-494B-9967-B0627A74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6732-CC34-43E6-8840-D58E787F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D317-997D-45B2-9BFE-17A982FC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DAA-C463-4312-92D9-8D7FDB54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A61-EA04-4398-A254-2E4C03AD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6868-2323-410A-B79D-F9752F57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2F7C-14BB-49A4-AD5B-3CD7CC6B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4B3-099C-41DC-A469-8AF0E47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C2C-9FBA-435B-95A2-57E563E1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AA3C-A0C4-434D-A3FE-63A771DE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664A-5C6A-45D8-ABC5-D0D4F93B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1AAE-69D9-475A-91E6-D3AA87CD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8293-9C29-4AE6-B9ED-1E60CEA0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A51C-9D10-4C33-8991-080880EC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DFEE-3D62-4CFD-84F1-C695526A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5A0-B1C8-4A68-B223-479B5F78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D3F-D6FE-4541-8A62-EB211C8C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E70-FF2B-497C-90CC-87A32F40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C57-136E-40EA-85C9-EB9FD73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D11-3AA1-48C9-95FA-125D82E9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E9FA-2D9F-48A6-98A8-A12F6FC5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E67A-7CFC-4F6E-8FA2-80926A093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80C1-8023-4BF8-9318-8FFAC9CE6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u.ro/index.php?module=uploads&amp;func=download&amp;fileId=305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ARACIP 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Agentia </a:t>
            </a:r>
            <a:r>
              <a:rPr b="0" lang="ro-RO" sz="29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om</a:t>
            </a:r>
            <a:r>
              <a:rPr b="0" lang="ro-RO" sz="2900" spc="-1" strike="noStrike">
                <a:solidFill>
                  <a:srgbClr val="000066"/>
                </a:solidFill>
                <a:latin typeface="Arial"/>
              </a:rPr>
              <a:t>ână de Asigurare a Calităţii în Învăţământul Preuniversita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o instituţie publică , în subordinea MEdC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fiinţată prin </a:t>
            </a:r>
            <a:r>
              <a:rPr b="0" lang="en-US" sz="20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Ordonanţa de urgenţă a Guvernului nr. 75/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asigurarea calităţii educaţiei, aprobată prin Legea nr. 87/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Criterii de selecţie a reprezentanţilor  corpului profesoral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4983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fesiona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bine pregătit profes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u bună reputaţie în şcoală şi comuni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cu rezultate obţinute de către elevi, prin care a sporit prestigiul şcol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ntelectua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deschis schimbărilor, flexibil, receptiv la n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  pasionat pentru mese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adept al muncii de cali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Organizational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preocupat pentru asigurarea unor noi resurse educaţ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bun organizato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Moral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fire neconflictual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ţinută morală impecabil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o-RO" sz="1600" spc="-1" strike="noStrike">
                <a:solidFill>
                  <a:srgbClr val="000000"/>
                </a:solidFill>
                <a:latin typeface="Times New Roman"/>
              </a:rPr>
              <a:t>- comunicativ, emp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ROLUL COMISIEI PENTRU EVALUARE ŞI ASIGURAREA CALITĂŢII</a:t>
            </a:r>
            <a:r>
              <a:rPr b="0" lang="ro-RO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200" y="2044800"/>
            <a:ext cx="7851960" cy="3975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REALIZEAZĂ EVALUAREA INTERNĂ A ŞCOLII, PE BAZA STANDARDELOR DE FUNCŢIONARE ŞI A CELOR DE  CALI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PROPUNE O STARTEGIE DE ÎMBUNĂTĂŢIRE A CALITĂŢI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IMPLEMENTAREA SISTEMULUI DE MANAGEMENT AL CALITĂ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ATRIBUŢIILE COMISIEI PENTRU EVALUARE ŞI ASIGURAREA CALITĂŢII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DEFINEASCĂ –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valorile, principiile şi indicatorii cal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CONSTRUIASC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prin participare şi dezbatere,  consensul tuturor “purtătorilor de interese”(elevi, profesori,părinţi ,angajatori)în privinţa indicatorilor de cali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URMĂREASC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 respectarea procedurilor curente de funcţionare şi dezv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EVALUEZE IMPACTUL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 tuturor activităţilor din şcoală asupra calităţii educa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Ă PROPUNĂ MĂSURI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– de optimizare/ dezvoltare a calităţii educaţiei ofe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ţ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i ale calit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ăţ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i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erea unor necesitati; gradul de satisfactie al clientilor; capacitatea de a indeplini o trebuinta corespunzatoare pentru a fi utilizata, si in conformitate cu anumite cerintele ceru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9000/2000: “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are un ansamblu de caracteristici implicite satisfac cerintele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.75/2005: “calitatea educatiei este ansamblul de caracteristici ale unui program de studiu si ale furnizorului acestuia, prin care sunt satisfacute asteptarile beneficiarilor, precum si standardele de calitate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.75/2005: “asigurarea calitatii in educatie exprima capacitatea unei organizatii furnizoare de a oferi programe, in conformitate cu standardele nationale”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siunea</a:t>
            </a:r>
            <a:r>
              <a:rPr b="1" lang="ro-RO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ARACIP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R.A.C.I.P. realizeaz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cc"/>
                </a:solidFill>
                <a:latin typeface="Arial"/>
              </a:rPr>
              <a:t>evaluarea extern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alităţii educaţiei oferite de instituţiile de învăţământ preuniversitar şi de alte organizaţii furnizoare de educaţi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cc"/>
                </a:solidFill>
                <a:latin typeface="Arial"/>
              </a:rPr>
              <a:t>autorizarea, acreditarea şi evaluarea periodic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unităţilor de învăţământ preuniversi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tivităţile ARACIP?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zează activitatea d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valuare şi acreditare a furnizorilo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 educaţie din învăţământul preuniversit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ectuează, pe baze contractuale, la solicitarea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istrului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caţiei şi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cetării,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valuarea calităţii educaţie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in învăţământul preuniversitar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zează, împreună cu inspectoratele şcolare şi direcţiile de resort din Ministerului Educaţiei şi Cercetării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ctivitatea de monitorizare şi control al calităţi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ectuează, cel puţin o dată la 3 ani, evaluarea organizaţiilor furnizoare de educaţie acreditat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une Ministerului Educatiei şi Cercetării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înfiinţarea şi acreditarea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prin ordin, a instituţiilor de învăţământ preuniversitar pentru fiecare nivel de învăţământ, program de studii şi calificare profesională, după caz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aborează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standardele</a:t>
            </a:r>
            <a:r>
              <a:rPr b="1" i="1" lang="ro-RO" sz="1800" spc="-1" strike="noStrike">
                <a:solidFill>
                  <a:srgbClr val="ff0000"/>
                </a:solidFill>
                <a:latin typeface="Times New Roman"/>
              </a:rPr>
              <a:t> naţionale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şi indicatorii de performanţă, metodologia de evaluare instituţională şi de acreditare, manuale de evaluare internă a calităţii, ghiduri de bune practici, un raport anual cu privire la propria activitate, analize de sistem asupra calităţii învăţământului preuniversitar din România, recomandări de îmbunătăţire a calităţii invăţământului preuniversi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STANDARDELE NATIONALE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DEFINIRE :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reprezintă descrierea cerinţelor formulate în termeni de reguli sau rezultate, care definesc nivelul de realizare a unei activităţi de educaţ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TIPURI DE STANDARD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de autor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de acreditare şi evaluare period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de calitate :minimale, de referinţă, de excelenţ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STRUCTURA STANDARDELOR</a:t>
            </a:r>
            <a:r>
              <a:rPr b="0" lang="ro-R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uprinde 3 domenii :CAPACITATE INSTITUŢIONALĂ, EFICACITATE EDUCAŢIONALĂ ŞI MANAGEMENTUL CALITĂ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. CAPACITATE INSTITUŢIONAL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MANAGEMENTUL 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MANAGEMENTUL OPERAŢ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BAZA MATERIALĂ: spaţii şcolare, spaţii administrative,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paţii auxiliare, materiale şi mijloace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         învăţământ , auxiliare curriculare, documente ş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RESURSE UMANE : managementul personalului d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onducere, didactic, didactic auxiliar şi nedidac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0920" y="94680"/>
            <a:ext cx="78692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2200" y="1599840"/>
            <a:ext cx="7851960" cy="441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EFICACITATEA EDUCAŢIONAL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CONŢINUTUL PROGRAMELOR DE STUDIU : ofert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educaţională, curriculu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REZULTATELE ÎNVĂŢĂRII : performanţele şcolare, performanţ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extraşco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ACTIVITATEA DE CERCETARE SAU METODICĂ: activitatea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tiinţific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ACTIVITATEA FINANCIARĂ: surse de constituire a bugetului,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execuţie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bugeta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9640" y="-14040"/>
            <a:ext cx="78231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906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. MANAGEMENTUL CALITĂŢ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TRATEGII ŞI PROCEDURI PT ASIGURAREA CALITĂŢII: 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autoevaluarea instituţională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REVIZUIREA PERIODICĂ A OFERTEI EDUCAŢ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OPTIMIZAREA PROCEDURILOR DE EVAL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EVALUAREA CALITĂŢII CORPULUI PROFES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OPTIMIZAREA ACCESULUI LA RESURSELE EDUCAŢ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CONSTITUIREA ŞI ACTUALIZAREA BAZEI DE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TRANSPARENŢA INFORMAŢIILOR DE INTERES 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- FUNCŢIONAREA STRUCTURILOR DE ASIGURARE A CALITĂŢII EDUCAŢI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imes New Roman"/>
              </a:rPr>
              <a:t>COMISIA PENTRU EVALUARE ŞI ASIGURARE A CALITĂŢII</a:t>
            </a:r>
            <a:r>
              <a:rPr b="0" lang="ro-RO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1. CADRUL LEG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Legea 87/2006 pentru aprobarea O.U.G. Nr 75/2005 privind asigurarea calităţii, art 11 şi 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ROFUIP aprobat prin OMEdC nr 4925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Strategia descentralizării învăţământului preuniversit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2. COMPONENŢA COMISI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4- 8 membri + 1 coordo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a) 1-3 reprezentanţi ai corpului profes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b)  1 reprezentant al sindicatului reprezent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)  1 reprezentant al părinţil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d)  1 reprezentant al elev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e)  1 reprezentant consiliul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o-RO" sz="1800" spc="-1" strike="noStrike">
                <a:solidFill>
                  <a:srgbClr val="000000"/>
                </a:solidFill>
                <a:latin typeface="Times New Roman"/>
              </a:rPr>
              <a:t>Coordonatorul comisiei este conducătorul instituţiei sau o persoană desemnată de ace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57:54Z</dcterms:created>
  <dc:creator>Error</dc:creator>
  <dc:description/>
  <dc:language>en-US</dc:language>
  <cp:lastModifiedBy>Dana</cp:lastModifiedBy>
  <dcterms:modified xsi:type="dcterms:W3CDTF">2011-05-24T15:08:24Z</dcterms:modified>
  <cp:revision>4</cp:revision>
  <dc:subject/>
  <dc:title>ARACIP  Agentia Română de Asigurare a Calităţii în Învăţământul Preuniversitar</dc:title>
</cp:coreProperties>
</file>